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gif" ContentType="image/gif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8545-DB48-4763-9E18-ECC949B10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6723-ECA1-4595-A658-2E152D96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B687-FC9D-4219-A197-E86C01B91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6F74-E543-4887-8FAD-98028B5D9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0D62-9653-4E58-BC59-0DF1FCDD6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B2C7-BC4F-4329-B13E-B8B41138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3E41-AC4A-4EC6-BA0A-21D8E730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1078-7474-4D6C-B33A-EC7BD017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2F00-8C58-4CFE-8147-018B7B46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8138-BA21-4670-9277-3AA9C813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2AB8-024B-4B24-92FE-DD62E205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7035-D0F6-457E-B248-48B8FD31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DCFA-6436-42F4-BC83-A9F88272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9A84-F2BA-4816-B7C0-26E620CC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99E0-C77B-4F72-96C2-28461030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B20C-0CBD-47C7-9561-9F70F2FF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7A4D-9E94-4678-A084-140545240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1EA0A-9AC8-4B47-A23F-40D19EF0F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2D613-2B38-4F85-B534-446FBB85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36CB6-5041-4B05-B9E0-C15B75DC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FD5E0-65AD-4B38-8120-28F32AD1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B8054-8CEF-4A92-A3C9-0BC31F5B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A4B3-C062-42DF-9F5B-F737DD3A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0619D-022F-4CC3-9014-46702F56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32D43-14A5-4C8F-A3A0-A18D8C64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7ECF3-5689-4DC4-9896-F483ACB5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37C81-84B7-4D9C-ABF3-FAC69A59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74D74-9C94-46FC-BC7F-DCF046DE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3C50A-8702-4929-A257-133D15DB0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16325-BF34-4441-B919-7B79FA0C5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08331-2D4F-450D-A7A6-7CF12D98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2930F-66E5-418F-9DE3-9FA415BE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B37F4-0BA7-4423-BEC4-76CAF624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BCF8-FB75-4C84-BA0E-DC3220BB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C89C0-A101-4AD9-A846-F1800AB8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A4976-97AF-4660-8F9C-341BF9D0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4F187-634F-4785-A07E-D3717E64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CBCBB-6D22-4DBE-AA9A-C35A1F15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E7216-5B17-4BC3-8106-0D4B4F41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9A67B-F43C-4C4C-9996-A0660887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63C7E-5FD2-447F-BD0D-70C4D358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D57F7-7940-4177-806D-D3641E64C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3603C-105C-42F5-AE9A-6B735C783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F3EB-63CE-4EF1-AAD4-FA7697F8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4268-D192-4225-909C-3BD2E0C0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35CE-D50F-4E67-B8CB-439F3847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D6F0-F382-41D4-8479-60035FF5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BCE3-17A0-488A-9CF4-ED1D2003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a liv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a liv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016E-4BE7-48EF-9F48-93E8E1EAD03B}" type="slidenum">
              <a:rPr b="0" lang="pt-B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a liv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orma liv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a liv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rma liv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u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a liv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orma liv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6029-F5FE-4775-A6FF-AD8DF09CFF79}" type="slidenum">
              <a:rPr b="0" lang="pt-BR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a liv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rma liv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u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a liv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orma liv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AB7A-34E7-4B4B-81E3-8F9D1CCAA4D0}" type="slidenum">
              <a:rPr b="0" lang="pt-BR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tângulo com Único Canto Aparado e Arredondado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riângulo retângulo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rma livre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rma livre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7497-3F53-490B-A7C2-626D50420FDB}" type="slidenum">
              <a:rPr b="0" lang="pt-B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FmidSbKhTs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http://www.cq.ufam.edu.br/download/Gifts/Professores/4955190.gif"/>
          <p:cNvPicPr/>
          <p:nvPr/>
        </p:nvPicPr>
        <p:blipFill>
          <a:blip r:embed="rId1"/>
          <a:stretch/>
        </p:blipFill>
        <p:spPr>
          <a:xfrm>
            <a:off x="5508720" y="3222720"/>
            <a:ext cx="3635280" cy="3635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http://t3.gstatic.com/images?q=tbn:ANd9GcQKjpZJJYUQqbanyccnLIO-YtQOLjdd0GcL3BgcizpzOjnW8G4&amp;t=1&amp;usg=__8j_3jyvjpdaNlHGj8865UEP-uAE="/>
          <p:cNvPicPr/>
          <p:nvPr/>
        </p:nvPicPr>
        <p:blipFill>
          <a:blip r:embed="rId2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197" name="Título 6" descr=""/>
          <p:cNvPicPr/>
          <p:nvPr/>
        </p:nvPicPr>
        <p:blipFill>
          <a:blip r:embed="rId3"/>
          <a:stretch/>
        </p:blipFill>
        <p:spPr>
          <a:xfrm>
            <a:off x="-249120" y="1463760"/>
            <a:ext cx="8332560" cy="25588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-684720" y="4797000"/>
            <a:ext cx="6048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Professor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Moisés Rodrigo Galony Dos Santo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4617b"/>
                </a:solidFill>
                <a:latin typeface="Calibri"/>
              </a:rPr>
              <a:t>Propriedades Coligativas: Os efeitos da temperatura sobre a pressão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A presente atividade foi realizada com os alunos do 2º A da Escola Reynaldo Massi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Retângulo 3"/>
          <p:cNvSpPr/>
          <p:nvPr/>
        </p:nvSpPr>
        <p:spPr>
          <a:xfrm>
            <a:off x="395280" y="3429000"/>
            <a:ext cx="8353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onstantia"/>
              </a:rPr>
              <a:t>Objetivos: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 Verificar como efetuar o abaixamento da temperatura de congelamento de um líquido, provocado pela dissolução de outra substância, no caso o sal de cozinha (NaCl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Compreender propriedades coligativ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Conhecimento adquirid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Diagrama de fa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Tonoscop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Ebulioscop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Crioscop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Omoscop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4" descr="Quimica_TD_fig03"/>
          <p:cNvPicPr/>
          <p:nvPr/>
        </p:nvPicPr>
        <p:blipFill>
          <a:blip r:embed="rId1"/>
          <a:stretch/>
        </p:blipFill>
        <p:spPr>
          <a:xfrm>
            <a:off x="5219640" y="1916280"/>
            <a:ext cx="3322800" cy="4481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agua_diagr_est1"/>
          <p:cNvPicPr/>
          <p:nvPr/>
        </p:nvPicPr>
        <p:blipFill>
          <a:blip r:embed="rId2"/>
          <a:stretch/>
        </p:blipFill>
        <p:spPr>
          <a:xfrm>
            <a:off x="0" y="4869000"/>
            <a:ext cx="513396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Atividade aos alun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Os alunos foram divididos em 5 grupo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Cada grupo teria que confeccionar um vídeo explicando sua determinada propriedad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Resulta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Botão de ação: Filme 3">
            <a:hlinkClick r:id="rId1"/>
          </p:cNvPr>
          <p:cNvSpPr/>
          <p:nvPr/>
        </p:nvSpPr>
        <p:spPr>
          <a:xfrm>
            <a:off x="2195640" y="4292640"/>
            <a:ext cx="3240000" cy="1512720"/>
          </a:xfrm>
          <a:custGeom>
            <a:avLst/>
            <a:gdLst>
              <a:gd name="textAreaLeft" fmla="*/ 97920 w 3240000"/>
              <a:gd name="textAreaRight" fmla="*/ 3142080 w 3240000"/>
              <a:gd name="textAreaTop" fmla="*/ 97920 h 1512720"/>
              <a:gd name="textAreaBottom" fmla="*/ 1414800 h 1512720"/>
            </a:gdLst>
            <a:ahLst/>
            <a:rect l="textAreaLeft" t="textAreaTop" r="textAreaRight" b="textAreaBottom"/>
            <a:pathLst>
              <a:path w="46258" h="21600">
                <a:moveTo>
                  <a:pt x="0" y="0"/>
                </a:moveTo>
                <a:lnTo>
                  <a:pt x="46258" y="0"/>
                </a:lnTo>
                <a:lnTo>
                  <a:pt x="46258" y="21600"/>
                </a:lnTo>
                <a:lnTo>
                  <a:pt x="0" y="21600"/>
                </a:lnTo>
                <a:close/>
              </a:path>
              <a:path fill="lightenLess" w="46258" h="21600">
                <a:moveTo>
                  <a:pt x="0" y="0"/>
                </a:moveTo>
                <a:lnTo>
                  <a:pt x="46258" y="0"/>
                </a:lnTo>
                <a:lnTo>
                  <a:pt x="44858" y="1400"/>
                </a:lnTo>
                <a:lnTo>
                  <a:pt x="1400" y="1400"/>
                </a:lnTo>
                <a:close/>
              </a:path>
              <a:path fill="darken" w="46258" h="21600">
                <a:moveTo>
                  <a:pt x="46258" y="0"/>
                </a:moveTo>
                <a:lnTo>
                  <a:pt x="46258" y="21600"/>
                </a:lnTo>
                <a:lnTo>
                  <a:pt x="44858" y="20200"/>
                </a:lnTo>
                <a:lnTo>
                  <a:pt x="44858" y="1400"/>
                </a:lnTo>
                <a:close/>
              </a:path>
              <a:path fill="darkenLess" w="46258" h="21600">
                <a:moveTo>
                  <a:pt x="462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8" y="20200"/>
                </a:lnTo>
                <a:close/>
              </a:path>
              <a:path fill="lighten" w="462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58" h="21600">
                <a:moveTo>
                  <a:pt x="16122" y="7301"/>
                </a:moveTo>
                <a:lnTo>
                  <a:pt x="17036" y="7301"/>
                </a:lnTo>
                <a:lnTo>
                  <a:pt x="17419" y="7667"/>
                </a:lnTo>
                <a:lnTo>
                  <a:pt x="26628" y="7667"/>
                </a:lnTo>
                <a:lnTo>
                  <a:pt x="27185" y="8224"/>
                </a:lnTo>
                <a:lnTo>
                  <a:pt x="27185" y="8772"/>
                </a:lnTo>
                <a:lnTo>
                  <a:pt x="29030" y="8772"/>
                </a:lnTo>
                <a:lnTo>
                  <a:pt x="29396" y="8224"/>
                </a:lnTo>
                <a:lnTo>
                  <a:pt x="30135" y="8224"/>
                </a:lnTo>
                <a:lnTo>
                  <a:pt x="30135" y="13376"/>
                </a:lnTo>
                <a:lnTo>
                  <a:pt x="29396" y="13376"/>
                </a:lnTo>
                <a:lnTo>
                  <a:pt x="29030" y="12828"/>
                </a:lnTo>
                <a:lnTo>
                  <a:pt x="27185" y="12828"/>
                </a:lnTo>
                <a:lnTo>
                  <a:pt x="27185" y="14107"/>
                </a:lnTo>
                <a:lnTo>
                  <a:pt x="17602" y="14107"/>
                </a:lnTo>
                <a:lnTo>
                  <a:pt x="17602" y="9877"/>
                </a:lnTo>
                <a:lnTo>
                  <a:pt x="17419" y="9877"/>
                </a:lnTo>
                <a:lnTo>
                  <a:pt x="17036" y="10243"/>
                </a:lnTo>
                <a:lnTo>
                  <a:pt x="16122" y="10243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13:42:39Z</dcterms:created>
  <dc:creator>Moises</dc:creator>
  <dc:description/>
  <dc:language>en-US</dc:language>
  <cp:lastModifiedBy>Moises</cp:lastModifiedBy>
  <dcterms:modified xsi:type="dcterms:W3CDTF">2010-08-23T14:24:19Z</dcterms:modified>
  <cp:revision>4</cp:revision>
  <dc:subject/>
  <dc:title>Slide 1</dc:title>
</cp:coreProperties>
</file>